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AC0-D85F-4897-819E-BE727F5B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EDB-E490-4586-82E9-138D2B4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3A7-EAE0-4538-9D6C-63A218B3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5C7-FBAD-4563-B90B-9EEE3A0D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DEA8-03F0-40A9-BC8E-BB2DBFE7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3266-1665-4953-A699-8BBD8804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6636-04F1-4E3F-A993-3FF2D81A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5D2A-02A4-4180-B7B3-DE28C03C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CE3E-651F-4EA1-9479-3D9D4DEB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B4EB-0BC6-4809-AE25-A5558BD7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9FE8-1EBC-48CF-9389-5864C1DA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45B-C476-4CF7-B77A-77170D1A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982F-EDF7-4745-A65E-34429546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9424-01BA-4575-BC8C-AA94963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6FE9-022D-441E-8BDF-1E37E4F7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0D29-5027-4A1C-B75B-EDB155A5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1996-75ED-42AE-BB1F-48A275D3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1C52-573D-4392-A6D4-6A8EFD02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D096-9017-42C8-BF8B-C013E91E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5B5E-169B-47C5-BCC1-F09FEED5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D4A5-654A-42FD-9BC4-5CDBAFD8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71A3-7EB6-4CFA-A997-32F870C7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6AE-BC31-4B97-B287-819EDF3F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9E18-225F-42B6-BE14-76907425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3A40-6A82-410D-815B-14D8AE97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6016-FDE8-46D8-AC7D-B63F0FF5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D0D4-6CD9-462E-AAE4-80A61692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3A8E-6906-449C-B68B-CC5845BA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6089-4E5B-4B57-9070-313F5B5F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7641-28EF-4245-AAEF-5D0D6841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C836-4EAB-4310-97A6-51C68BB7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8086-811F-4D33-ADB8-32644612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AAE8-C4BE-43D8-BF3D-82F43831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82F-925E-407A-AE5C-08E928CF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A966-B3D5-45A8-8FA3-DE47556D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145E-2CDD-4255-9651-434C4ACA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C57C0-6612-4A28-A630-2E524D85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4217-78EB-4E63-AE30-3F5CA4E7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0ECC-9F2C-4DC4-9FA4-CE53BFDB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2A60A-7476-4E1D-B2F5-760062AF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1B59-3B03-4365-B749-A9A86D3E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61A9-554D-43C2-AAED-950477C6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5AF7-485D-4437-8347-B14F92A2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15A1-CA14-494A-960C-BC4BF7A0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2F6-741A-4E53-8A75-7209A3CB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141E0-E1B6-475F-B1FF-0005FF24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4145-DDEB-477B-BF63-447C1C27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F2C1-286E-4BA0-B8ED-5FDD6ADA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78F2-4C04-48B5-89AC-03DE06B9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98CC-A275-4297-AD4E-B99CED88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6E9BD-0998-4E2A-852D-ADC10D6C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3995-00E4-4E50-8C82-090C0E9E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0171-797B-4DC5-AED8-2D62900C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127C2-C82E-482D-90A1-221C288A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5064-041F-4D37-83EA-F1C4BE77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8BB-8790-42E7-AAB5-77DF6C52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B36E4-A80D-44EC-9029-3E1F48C1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FDD26-7203-4966-8D07-902956DD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6FE13-063F-4DB7-A258-45CF0DC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A205-5D0A-4C96-B5ED-D4C473ED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BE35A-7A76-4100-AB0F-ED816030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D5EA6-D257-47D7-9AA2-1AC24812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50CE-0135-48DE-882D-63DEC7C7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A8449-8199-4971-8A76-8181E1E7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82BBF-1B81-4FE4-AA27-E924D6F2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9C55-89C1-437F-9BCD-1D2A400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229-3CCC-4CD6-93E1-873BA331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D1EE6-64B1-4381-A1A5-A6F7CD66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36C10-35C7-4C77-9BD7-9945245C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C8D2D-B453-4E93-9033-9B316CDB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2A40-0A17-4C9A-9F47-107FAF5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52173-27F9-43E4-9C3B-9FEC9FA2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4BA47-88A6-4631-8FBE-F35CC5DA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5D57D-CD03-4ACA-8957-8F3AA650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9F0BE-B06F-4FDD-91C9-E3A91AE1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9B43B-1B6C-46FB-8161-85C0BB2B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7218A-E278-4A4B-A7AF-EF63363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C12-F08B-4993-A836-C835A41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E4358-96F2-4DAD-B9F8-73744056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6FD36-F72B-49CD-8A5C-9DAA8EC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76D33-4E25-4C61-B80E-0C399015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7102F-F90B-4142-AB7A-40CB748C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AE46F-CE4A-41A3-BCC5-E4E93090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085-8832-4311-A489-3CD0711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2DF7-8D19-4518-A660-80A7BAA5EA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3E13-AED2-41FF-90B4-7986E53A798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763-EAE8-403E-8F4A-DE44FF34A85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3FDD-7C19-4E02-B080-537F9E247E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9E0C-855A-4B8C-858B-794F3F0C5C1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1663-D517-4D37-9A6B-0F0C793D9F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A17B-C8C4-48AC-A41E-7571A9DDE28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History Influences Tex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American Romantic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manticism vs. Rationalism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uition versus calcu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otion versus reas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ontaneity versus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vidualism versus social 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derness versus indust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jective experience versus objective f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aphysical musing versus scientific resear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Content Placeholder 4" descr="(rom5) durand.jpg"/>
          <p:cNvPicPr/>
          <p:nvPr/>
        </p:nvPicPr>
        <p:blipFill>
          <a:blip r:embed="rId1"/>
          <a:stretch/>
        </p:blipFill>
        <p:spPr>
          <a:xfrm>
            <a:off x="5676840" y="2060640"/>
            <a:ext cx="2857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098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2314"/>
                </a:solidFill>
                <a:latin typeface="Gill Sans MT"/>
              </a:rPr>
              <a:t>THE DARK ROMANTICS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ike other Romantics, valued intuition over logic and reas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ike other Romantics, saw signs and symbols in all eve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like other Romantics, did not believe that nature is good or harmles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plored the conflict between good and evil, the psychological effects of guilt and sin, and even madnes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w the horror of evil behind the thin façade of respectable socie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Content Placeholder 4" descr="(rom8) Fuseli-Nightmare.jpg"/>
          <p:cNvPicPr/>
          <p:nvPr/>
        </p:nvPicPr>
        <p:blipFill>
          <a:blip r:embed="rId1"/>
          <a:stretch/>
        </p:blipFill>
        <p:spPr>
          <a:xfrm>
            <a:off x="2133720" y="2819520"/>
            <a:ext cx="47624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med Writing: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re You Rationalist or Romantic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you, personally, relate more closely to the values of the Rationalists or of the Romantics?  Give specific examples of political / philosophical assumptions that you share with the group you identif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2" descr="C:\Users\Stephen\AppData\Local\Microsoft\Windows\Temporary Internet Files\Content.IE5\XKFOFSSB\MCBD19612_0000[1].wmf"/>
          <p:cNvPicPr/>
          <p:nvPr/>
        </p:nvPicPr>
        <p:blipFill>
          <a:blip r:embed="rId1"/>
          <a:stretch/>
        </p:blipFill>
        <p:spPr>
          <a:xfrm>
            <a:off x="5410080" y="1670040"/>
            <a:ext cx="3492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merican Romantic Period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(1800 – 1860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6668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times called the American Renaissa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ever, Renaissance means “rebirth” and the American Renaissance was not the rebirth of an old style; it was a completely new, uniquely American sty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uthors were mature, innovative, and optimistic about America and individualis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Content Placeholder 6" descr="Bierstadt_LandersPeak_1863 (rom1).jpg"/>
          <p:cNvPicPr/>
          <p:nvPr/>
        </p:nvPicPr>
        <p:blipFill>
          <a:blip r:embed="rId1"/>
          <a:stretch/>
        </p:blipFill>
        <p:spPr>
          <a:xfrm>
            <a:off x="2438280" y="4100400"/>
            <a:ext cx="41911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Values of American Romanticis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erished imagination, individual feelings, and wild natur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ld a realistic view of the dark side of the human spiri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flected strong national pri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lieved that the individual, no matter what background or class, was to be respected for his/her personal, and unlimited, accomplishm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Content Placeholder 4" descr="(rom2) Asher_Durand_Kindred_Spirits.jpg"/>
          <p:cNvPicPr/>
          <p:nvPr/>
        </p:nvPicPr>
        <p:blipFill>
          <a:blip r:embed="rId1"/>
          <a:stretch/>
        </p:blipFill>
        <p:spPr>
          <a:xfrm>
            <a:off x="5533920" y="1523880"/>
            <a:ext cx="3143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94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merican Romanticism was a response to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404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grime and noise of the industrial 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direct contact of the population with the American wildern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wing conflict among the people regarding slave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men’s push toward equality with 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 audience of readers hungry for literature that was purely Americ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Content Placeholder 4" descr="(rom4) Cole_course_of_empire_pastoral.jpg"/>
          <p:cNvPicPr/>
          <p:nvPr/>
        </p:nvPicPr>
        <p:blipFill>
          <a:blip r:embed="rId1"/>
          <a:stretch/>
        </p:blipFill>
        <p:spPr>
          <a:xfrm>
            <a:off x="2438280" y="4191120"/>
            <a:ext cx="40388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The Progression of American Thought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marL="626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OMANTICS WERE DISTINCT FROM PREVIOUS AMERICANS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YET, INFLUENCED BY THESE SAME GROUPS OF AMERICAN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saw themselves as revolting against the “Age of Reason” and its valu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ism rejected fiery Puritan rhetoric about religion, guilt, and salva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6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lIns="90000" rIns="90000" tIns="46800" bIns="46800" anchor="t">
            <a:normAutofit fontScale="97000"/>
          </a:bodyPr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were moved by powerful Rationalist rhetoric about the rights of the individual and freedo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searched for truth and beauty in ordinary objects or scenes, like the Purita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572314"/>
                </a:solidFill>
                <a:latin typeface="Gill Sans MT"/>
              </a:rPr>
              <a:t>The Voyage of Life: Childhood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Thomas Cole, 1840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Content Placeholder 3" descr="(rom9) Cole_Thomas_The_Voyage_of_Life_Childhood_1842.jpg"/>
          <p:cNvPicPr/>
          <p:nvPr/>
        </p:nvPicPr>
        <p:blipFill>
          <a:blip r:embed="rId1"/>
          <a:stretch/>
        </p:blipFill>
        <p:spPr>
          <a:xfrm>
            <a:off x="1549440" y="1447920"/>
            <a:ext cx="727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86360" y="1066680"/>
            <a:ext cx="2743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The Voyage of Life: Childhood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Thomas Cole, 1840 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(detail)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7" name="Picture Placeholder 12" descr="(rom9) Cole_Thomas_The_Voyage_of_Life_Childhood_1842.jpg"/>
          <p:cNvPicPr/>
          <p:nvPr/>
        </p:nvPicPr>
        <p:blipFill>
          <a:blip r:embed="rId1"/>
          <a:stretch/>
        </p:blipFill>
        <p:spPr>
          <a:xfrm>
            <a:off x="835200" y="1238400"/>
            <a:ext cx="4431960" cy="33271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0000"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Gill Sans MT"/>
              </a:rPr>
              <a:t>How does this painting depict childhood.  Consider both what it shows (denotation) and what it implies (connotation).  You have five minutes to write.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haracteristics of Romantic tex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ssionate and emotion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ntiment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metimes deal with the supernatu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aracters are often larger-than-life and aristocratic—sometimes stock characters are us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stinctions between upper and lower class charac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lloquial language and setting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Content Placeholder 10" descr="(rom6) Cole.jpg"/>
          <p:cNvPicPr/>
          <p:nvPr/>
        </p:nvPicPr>
        <p:blipFill>
          <a:blip r:embed="rId1"/>
          <a:stretch/>
        </p:blipFill>
        <p:spPr>
          <a:xfrm>
            <a:off x="5346720" y="1523880"/>
            <a:ext cx="3517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ore characteristics of Romantic tex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Content Placeholder 8" descr="(rom8) Simmonds_Ophelia.jpg"/>
          <p:cNvPicPr/>
          <p:nvPr/>
        </p:nvPicPr>
        <p:blipFill>
          <a:blip r:embed="rId1"/>
          <a:stretch/>
        </p:blipFill>
        <p:spPr>
          <a:xfrm>
            <a:off x="1219320" y="144792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ten written in third-person omniscient with the author/narrator interrupting to moralize or guide the read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nse, with strong rising action leading to a dramatic clim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mbolic, allegoric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w life as it might have been or might be rather than average life as it was during the author’s life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7:14:46Z</dcterms:created>
  <dc:creator>Carrie Danielson</dc:creator>
  <dc:description/>
  <dc:language>en-US</dc:language>
  <cp:lastModifiedBy>Stephen Joseph Fazio</cp:lastModifiedBy>
  <dcterms:modified xsi:type="dcterms:W3CDTF">2008-10-28T03:46:53Z</dcterms:modified>
  <cp:revision>23</cp:revision>
  <dc:subject/>
  <dc:title>Historical Influence on Tex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